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82F4-3F08-4E11-BD2E-8279B0FF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2004-51C8-48AC-9E23-97CF17B47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6785-6F61-422D-ACEC-306D548F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DE0-F28A-42BA-95BC-FCA3EB5F8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E9E6-2F4B-4C27-A816-B0B5B3A4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0D9-7555-402D-AED0-F8D6AE65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EE2-8FB0-4204-BB15-ADC4932D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11E-6F63-4193-A771-7283EFAC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521-FEBA-44ED-94B5-F9926847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7B6-154D-44EA-BE9E-D42594F6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C03-FBC4-4185-8A26-AECA964A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11AB-4D09-4794-953C-92625232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C34-F251-4D73-BC95-7833FDD4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1451-C0CC-4F05-84AB-B1AC57ED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2162-3FD3-417A-B6FD-880D33C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28B2-36AE-4E0B-B0AA-4556ACB6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E51-4635-4DFD-AD42-B71B0E8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A9A-CFBE-4DC9-BA58-371C241F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57E-D993-4729-B727-68DD868A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334-2646-45D4-BB42-C77BD0C9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E38-6D57-4D6A-BA56-4EFA0D47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D71-87AD-4F52-B2CC-9971380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F31-AA26-45DD-80BC-E6AB1E30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A6AD-F2C0-47C3-8329-A50A2D2A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C1A-BFF5-44AB-AC7F-A78CA2F0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2EA-14D2-4C0C-AA01-C1B899CB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00C-B153-44E0-9DE2-8AF9DCD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7A3-A6FB-4BF1-B332-9E53339B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EDC-A638-4648-8507-3E5DA39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097-D69B-4505-81EF-4B15814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4BC-F75E-4CAB-9AFC-9D3E45B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D0C-456E-4C84-A28E-7A42CA6DA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2390-38CA-4930-AA90-F9F6B0D17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Rise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 and Teachings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0000"/>
                </a:solidFill>
                <a:latin typeface="Futura"/>
              </a:rPr>
              <a:t>Beliefs &amp; Practices cont</a:t>
            </a:r>
            <a:r>
              <a:rPr b="0" lang="en-US" sz="3600" spc="-1" strike="noStrike">
                <a:solidFill>
                  <a:srgbClr val="c7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do not separate their __________________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customs, morals, and laws for Islamic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bidden to eat ____ or to drink _____________ bever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day afternoons set aside for communal worship and prayer; if able, Muslims gather at a Mosque to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uslim expected to worship God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 clas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la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religious teachers study the words and deeds of 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f Allah revealed to _________ through _______ in the form of the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ers of Muhammad listened to prayers and teachings, memorized and recited the Rev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is death, _________ recorded i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Arial"/>
              </a:rPr>
              <a:t>The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______ (_____________________________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_______ is used in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ver Muslims carried the Qur’an, Arabic became the 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rabic language spreads widely as Muslim control exp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’s mission was to receive the Qur’an and to demonstrate how to li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____________________, best model for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 and ______ assembled to create body of law known 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f law that regulates 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eparate ________ matters from criminal/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 applies to all following teachings of the Prophet, thus creates sense of unity for all Musl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06668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70000"/>
                </a:solidFill>
                <a:latin typeface="Impact"/>
              </a:rPr>
              <a:t>MUHAMMAD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Muhammad in Mecca"/>
          <p:cNvPicPr/>
          <p:nvPr/>
        </p:nvPicPr>
        <p:blipFill>
          <a:blip r:embed="rId1"/>
          <a:stretch/>
        </p:blipFill>
        <p:spPr>
          <a:xfrm>
            <a:off x="152280" y="1371600"/>
            <a:ext cx="3586320" cy="50734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2286000" y="838080"/>
            <a:ext cx="6553080" cy="2514600"/>
          </a:xfrm>
          <a:prstGeom prst="wedgeEllipseCallout">
            <a:avLst>
              <a:gd name="adj1" fmla="val -43750"/>
              <a:gd name="adj2" fmla="val 69379"/>
            </a:avLst>
          </a:prstGeom>
          <a:solidFill>
            <a:srgbClr val="5554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GRIEF YODER!  ST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CTU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GIVE THESE GUYS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O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71800" y="4343400"/>
            <a:ext cx="5791320" cy="2057400"/>
          </a:xfrm>
          <a:prstGeom prst="wedgeRoundRectCallout">
            <a:avLst>
              <a:gd name="adj1" fmla="val -61981"/>
              <a:gd name="adj2" fmla="val -54629"/>
              <a:gd name="adj3" fmla="val 16667"/>
            </a:avLst>
          </a:prstGeom>
          <a:solidFill>
            <a:srgbClr val="5554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 “A FOR ALLAH” PROJECT WOULD BE A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IDEA!  SHOW THEM THIS VIDEO CLIP FIRS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THEN HAND OUT THE ASSIGNMENT!  CAN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act"/>
              </a:rPr>
              <a:t>HANDLE THAT YO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3005f"/>
                </a:solidFill>
                <a:latin typeface="Futura"/>
              </a:rPr>
              <a:t>Deserts, Towns, and Travelers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bian Penins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lmost completely covered by de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ded animals, leading them to fertile grounds called an o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ads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 became important as the Bedouins began living in towns and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arly 600s, trade became an important activity in the Arabian penins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routes through Arabia ran from the extreme south of the peninsula to the __________ and _________ empires to the n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ught not only goods, but ______ from the world outside of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early 600s, cities such as Petra and Palmyra had long been prosperous trading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, in western Arabia, became an important stop on the trad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certain holy months, religious pilgrims would arrive with the trade caravans to worship at an ancient shrine in the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called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s associated _________________, believer in one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years, they introduced many gods and spir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one time over 360 idols brought by many t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serts, Towns, &amp; Travele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cept of the ____________,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rabic, was not new to the Arab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radition had long been followed by one group of people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n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ristians and Jews lived in Arab lands and practiced monotheism (________________________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into this environment of Mecca, around A.D. 750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b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____________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into the clan of a powerful Meccan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phaned at the age of 6, raised by grandfather and un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little sch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 trade caravan as a very young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trader and business manager for ________, a wealthy businesswo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married when he was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marriage and business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 of Muhamm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hammad took great interest in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t much time alone in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age of 40, Muhammad’s life changed overnight when he heard a voice while meditating in a cave outside of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Muslim belief, the voice is that of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briel told Muhammad he was a messenger of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asked Gabriel, “What shall I proclaim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came to believe that 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believes he is the last of the proph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ieves 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gods must be 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agreed with this basic principle of Islam were call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“_________________________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rabic, Islam means “___________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’s first followers were his wife, Khadijah, and several close friends and rel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phet Muhammad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3, Muhammad begins preaching publicly in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cans believed Mecca would lose its position as a _____________ if people accepted Muhammad’s __________________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llowers beaten or stoned in the stre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hostility, Muhammad leaves Mecca in 622 and resettles in the town of _________, over 200 miles north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igration became known as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migration attracted many devoted foll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thrib later named ______, “__________________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dina, Muhammad displays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ment made between his people and the Jews and Arabs of Medina; creates a single community with 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amd draws many more converts;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cts as _________ leader in hostility between Medina/Mec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ing to Me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s and Meccans battled against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edouin tribes converted to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ca’s power as a city dec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0, Muhammad and 10,000 followers march to outskirts of Me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ng defeat, Mecca’s leaders surrender the city and the Prophet enters in triu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returns to _________ and decla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destroys the idols in the Ka’aba and makes _______________ from the Ka’aba 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Z0_vnon5ow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aLFYMkQPakE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Meccans pledge loyalty to Muhammad &amp; many convert to Islam, thus joining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 dies two years later at age of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aken great strides in 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70000"/>
                </a:solidFill>
                <a:latin typeface="Futura"/>
              </a:rPr>
              <a:t>Beliefs and Practices of Isla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nly one God,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 Muslim, all believers have to carry out five duties…these are known as the 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To become a Muslim “There is no God but Allah, and Muhammad is the Messenger of Alla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5 times a day facing toward Mecca; the call to prayer http://www.youtube.com/watch?v=DoNPSEWn6aY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must support the less fortunate by giving alms, or money for the poor by paying a special religiou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During the Islamic holy month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uslims fast by restraining from food or drink from dawn until sunset.  A simple meal is eaten at the end of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51"/>
              </a:spcBef>
              <a:buClr>
                <a:srgbClr val="3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:  All Muslims perfor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least once in a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r identical garments so that all stand equal before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00:50Z</dcterms:created>
  <dc:creator>System Administrator</dc:creator>
  <dc:description/>
  <dc:language>en-US</dc:language>
  <cp:lastModifiedBy>admin</cp:lastModifiedBy>
  <dcterms:modified xsi:type="dcterms:W3CDTF">2012-03-07T16:02:06Z</dcterms:modified>
  <cp:revision>76</cp:revision>
  <dc:subject/>
  <dc:title>The Rise of Islam</dc:title>
</cp:coreProperties>
</file>